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AB2D-554E-410F-AB0F-99694F737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24CD-CB78-4295-B7BF-06BB5338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7393-B8CD-48CA-A72F-EA60F2A82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7736-664B-4CC4-870D-863C870C8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9BAA-31AC-4591-B966-7A41D9458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0520-88DE-4B4B-ACA8-EDD277E2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2D62-F6A9-49E8-A04F-49C26903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0E0F-C716-48DE-97FE-0278AB40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B1E0-3699-458A-B9EF-E65C8152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CD13-EA59-4A23-A515-3F84F3A3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1E57-3F90-4CB3-8B26-AE95A1CE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CA10-F916-4EFB-A994-8EB199FB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B559-7201-4313-A70C-508D18266483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New photon detector R&amp;D for Megaton water cherencov det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T 2007 May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0560" y="43920"/>
            <a:ext cx="5473800" cy="4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&amp;D -two direction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79280" y="476280"/>
          <a:ext cx="8856720" cy="6192720"/>
        </p:xfrm>
        <a:graphic>
          <a:graphicData uri="http://schemas.openxmlformats.org/drawingml/2006/table">
            <a:tbl>
              <a:tblPr/>
              <a:tblGrid>
                <a:gridCol w="1584360"/>
                <a:gridCol w="3529080"/>
                <a:gridCol w="3743280"/>
              </a:tblGrid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n detector R&amp;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out system R&amp;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5" name=""/>
          <p:cNvGrpSpPr/>
          <p:nvPr/>
        </p:nvGrpSpPr>
        <p:grpSpPr>
          <a:xfrm>
            <a:off x="1802520" y="1253520"/>
            <a:ext cx="1642320" cy="1888200"/>
            <a:chOff x="1802520" y="1253520"/>
            <a:chExt cx="1642320" cy="1888200"/>
          </a:xfrm>
        </p:grpSpPr>
        <p:grpSp>
          <p:nvGrpSpPr>
            <p:cNvPr id="46" name=""/>
            <p:cNvGrpSpPr/>
            <p:nvPr/>
          </p:nvGrpSpPr>
          <p:grpSpPr>
            <a:xfrm>
              <a:off x="1802520" y="1253520"/>
              <a:ext cx="1642320" cy="1888200"/>
              <a:chOff x="1802520" y="1253520"/>
              <a:chExt cx="1642320" cy="1888200"/>
            </a:xfrm>
          </p:grpSpPr>
          <p:grpSp>
            <p:nvGrpSpPr>
              <p:cNvPr id="47" name=""/>
              <p:cNvGrpSpPr/>
              <p:nvPr/>
            </p:nvGrpSpPr>
            <p:grpSpPr>
              <a:xfrm>
                <a:off x="1802520" y="1253520"/>
                <a:ext cx="1617120" cy="1611360"/>
                <a:chOff x="1802520" y="1253520"/>
                <a:chExt cx="1617120" cy="1611360"/>
              </a:xfrm>
            </p:grpSpPr>
            <p:grpSp>
              <p:nvGrpSpPr>
                <p:cNvPr id="48" name=""/>
                <p:cNvGrpSpPr/>
                <p:nvPr/>
              </p:nvGrpSpPr>
              <p:grpSpPr>
                <a:xfrm>
                  <a:off x="1802520" y="1253520"/>
                  <a:ext cx="1617120" cy="1609920"/>
                  <a:chOff x="1802520" y="1253520"/>
                  <a:chExt cx="1617120" cy="160992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>
                    <a:off x="2336760" y="2067120"/>
                    <a:ext cx="642600" cy="796320"/>
                  </a:xfrm>
                  <a:custGeom>
                    <a:avLst/>
                    <a:gdLst>
                      <a:gd name="textAreaLeft" fmla="*/ 38880 w 642600"/>
                      <a:gd name="textAreaRight" fmla="*/ 603720 w 642600"/>
                      <a:gd name="textAreaTop" fmla="*/ 38880 h 796320"/>
                      <a:gd name="textAreaBottom" fmla="*/ 757440 h 796320"/>
                    </a:gdLst>
                    <a:ahLst/>
                    <a:rect l="textAreaLeft" t="textAreaTop" r="textAreaRight" b="textAreaBottom"/>
                    <a:pathLst>
                      <a:path w="21600" h="26764">
                        <a:moveTo>
                          <a:pt x="4493" y="0"/>
                        </a:moveTo>
                        <a:arcTo wR="4493" hR="4493" stAng="16200000" swAng="-5400000"/>
                        <a:lnTo>
                          <a:pt x="0" y="22271"/>
                        </a:lnTo>
                        <a:arcTo wR="4493" hR="4493" stAng="10800000" swAng="-5400000"/>
                        <a:lnTo>
                          <a:pt x="17107" y="26764"/>
                        </a:lnTo>
                        <a:arcTo wR="4493" hR="4493" stAng="5400000" swAng="-5400000"/>
                        <a:lnTo>
                          <a:pt x="21600" y="4493"/>
                        </a:lnTo>
                        <a:arcTo wR="4493" hR="4493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1835280" y="1273680"/>
                    <a:ext cx="1584360" cy="1088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355120" y="2246760"/>
                    <a:ext cx="608760" cy="1605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2" name=""/>
                  <p:cNvGrpSpPr/>
                  <p:nvPr/>
                </p:nvGrpSpPr>
                <p:grpSpPr>
                  <a:xfrm>
                    <a:off x="1802520" y="1253520"/>
                    <a:ext cx="1597680" cy="1037160"/>
                    <a:chOff x="1802520" y="1253520"/>
                    <a:chExt cx="1597680" cy="1037160"/>
                  </a:xfrm>
                </p:grpSpPr>
                <p:sp>
                  <p:nvSpPr>
                    <p:cNvPr id="53" name=""/>
                    <p:cNvSpPr/>
                    <p:nvPr/>
                  </p:nvSpPr>
                  <p:spPr>
                    <a:xfrm rot="21468000">
                      <a:off x="1820520" y="1282680"/>
                      <a:ext cx="1561320" cy="97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42" y="0"/>
                          </a:moveTo>
                          <a:arcTo wR="10800" hR="10800" stAng="-5386777" swAng="5367352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42" y="0"/>
                          </a:moveTo>
                          <a:arcTo wR="10800" hR="10800" stAng="-5386777" swAng="5367352"/>
                        </a:path>
                      </a:pathLst>
                    </a:custGeom>
                    <a:solidFill>
                      <a:srgbClr val="ffffff"/>
                    </a:solidFill>
                    <a:ln w="7632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" name=""/>
                    <p:cNvSpPr/>
                    <p:nvPr/>
                  </p:nvSpPr>
                  <p:spPr>
                    <a:xfrm flipH="1" rot="66600">
                      <a:off x="1884240" y="1281600"/>
                      <a:ext cx="1486080" cy="97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42" y="0"/>
                          </a:moveTo>
                          <a:arcTo wR="10800" hR="10800" stAng="-5386777" swAng="5308926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42" y="0"/>
                          </a:moveTo>
                          <a:arcTo wR="10800" hR="10800" stAng="-5386777" swAng="5308926"/>
                        </a:path>
                      </a:pathLst>
                    </a:custGeom>
                    <a:solidFill>
                      <a:srgbClr val="ffffff"/>
                    </a:solidFill>
                    <a:ln w="7632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5" name=""/>
                <p:cNvGrpSpPr/>
                <p:nvPr/>
              </p:nvGrpSpPr>
              <p:grpSpPr>
                <a:xfrm>
                  <a:off x="2467800" y="2117160"/>
                  <a:ext cx="385560" cy="747720"/>
                  <a:chOff x="2467800" y="2117160"/>
                  <a:chExt cx="385560" cy="747720"/>
                </a:xfrm>
              </p:grpSpPr>
              <p:sp>
                <p:nvSpPr>
                  <p:cNvPr id="56" name=""/>
                  <p:cNvSpPr/>
                  <p:nvPr/>
                </p:nvSpPr>
                <p:spPr>
                  <a:xfrm>
                    <a:off x="2467800" y="2117160"/>
                    <a:ext cx="385560" cy="747720"/>
                  </a:xfrm>
                  <a:prstGeom prst="rect">
                    <a:avLst/>
                  </a:prstGeom>
                  <a:solidFill>
                    <a:srgbClr val="808080"/>
                  </a:solidFill>
                  <a:ln w="2844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478960" y="2856960"/>
                    <a:ext cx="362880" cy="2520"/>
                  </a:xfrm>
                  <a:prstGeom prst="line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58" name="" descr=""/>
              <p:cNvPicPr/>
              <p:nvPr/>
            </p:nvPicPr>
            <p:blipFill>
              <a:blip r:embed="rId1"/>
              <a:srcRect l="48301" t="56375" r="40471" b="5752"/>
              <a:stretch/>
            </p:blipFill>
            <p:spPr>
              <a:xfrm>
                <a:off x="2497320" y="2141280"/>
                <a:ext cx="322920" cy="100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2532240" y="2068920"/>
                <a:ext cx="252720" cy="0"/>
              </a:xfrm>
              <a:prstGeom prst="line">
                <a:avLst/>
              </a:prstGeom>
              <a:ln w="7632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087640" y="1405080"/>
                <a:ext cx="13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cc00"/>
                    </a:solidFill>
                    <a:latin typeface="Comic Sans MS"/>
                  </a:rPr>
                  <a:t>Photocathod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346480" y="1772280"/>
              <a:ext cx="67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99"/>
                  </a:solidFill>
                  <a:latin typeface="Comic Sans MS"/>
                </a:rPr>
                <a:t>Sc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403720" y="2422800"/>
              <a:ext cx="6166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99"/>
                  </a:solidFill>
                  <a:latin typeface="Comic Sans MS"/>
                </a:rPr>
                <a:t>PM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" descr=""/>
          <p:cNvPicPr/>
          <p:nvPr/>
        </p:nvPicPr>
        <p:blipFill>
          <a:blip r:embed="rId2"/>
          <a:srcRect l="0" t="0" r="63264" b="6163"/>
          <a:stretch/>
        </p:blipFill>
        <p:spPr>
          <a:xfrm>
            <a:off x="3708360" y="1197000"/>
            <a:ext cx="1522440" cy="1944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7020000" y="1268280"/>
            <a:ext cx="1838160" cy="187020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2268360" y="3357720"/>
            <a:ext cx="2305080" cy="2232000"/>
            <a:chOff x="2268360" y="3357720"/>
            <a:chExt cx="2305080" cy="2232000"/>
          </a:xfrm>
        </p:grpSpPr>
        <p:pic>
          <p:nvPicPr>
            <p:cNvPr id="66" name="" descr=""/>
            <p:cNvPicPr/>
            <p:nvPr/>
          </p:nvPicPr>
          <p:blipFill>
            <a:blip r:embed="rId4"/>
            <a:srcRect l="17508" t="12557" r="13711" b="5953"/>
            <a:stretch/>
          </p:blipFill>
          <p:spPr>
            <a:xfrm>
              <a:off x="2268360" y="3357720"/>
              <a:ext cx="2305080" cy="2232000"/>
            </a:xfrm>
            <a:prstGeom prst="rect">
              <a:avLst/>
            </a:prstGeom>
            <a:ln w="9360">
              <a:solidFill>
                <a:srgbClr val="333399"/>
              </a:solidFill>
              <a:miter/>
            </a:ln>
          </p:spPr>
        </p:pic>
        <p:pic>
          <p:nvPicPr>
            <p:cNvPr id="67" name="" descr=""/>
            <p:cNvPicPr/>
            <p:nvPr/>
          </p:nvPicPr>
          <p:blipFill>
            <a:blip r:embed="rId5"/>
            <a:srcRect l="16077" t="9433" r="10749" b="5617"/>
            <a:stretch/>
          </p:blipFill>
          <p:spPr>
            <a:xfrm>
              <a:off x="2268360" y="4412520"/>
              <a:ext cx="1168920" cy="1176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5508720" y="3270240"/>
            <a:ext cx="3384360" cy="1965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08000" y="5877000"/>
            <a:ext cx="3168720" cy="6426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Multichannel</a:t>
            </a:r>
            <a:r>
              <a:rPr b="0" lang="ja-JP" sz="1800" spc="-1" strike="noStrike">
                <a:solidFill>
                  <a:srgbClr val="ffffff"/>
                </a:solidFill>
                <a:latin typeface="Comic Sans MS"/>
              </a:rPr>
              <a:t> FE ASIC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, close to the PM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00360" y="4869000"/>
            <a:ext cx="358920" cy="28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700000" y="5157720"/>
            <a:ext cx="142920" cy="719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5435640" y="5373720"/>
            <a:ext cx="3384360" cy="1251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023200" y="2421000"/>
            <a:ext cx="1322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HybridP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09800" y="2630520"/>
            <a:ext cx="663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38880" y="1844640"/>
            <a:ext cx="1625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brid Pho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39600" y="4724280"/>
            <a:ext cx="3529080" cy="6426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Low noise Preamp ASIC on H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+ Q-T/waveform recoder A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549000"/>
            <a:ext cx="87854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t is difficult to finalize Mton detector system (incl. readout system) at pre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mpromise over performance and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349360"/>
            <a:ext cx="2089440" cy="172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360" y="4365720"/>
            <a:ext cx="5802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evelopment of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change information of R&amp;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scussion of Mton detecto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932360" y="4653000"/>
            <a:ext cx="11509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02520" y="4365720"/>
            <a:ext cx="174420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08720" y="5661000"/>
            <a:ext cx="11509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06520" y="5300640"/>
            <a:ext cx="2161800" cy="8254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V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050920" y="44280"/>
            <a:ext cx="547380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&amp;D -two direction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87280" y="476280"/>
          <a:ext cx="8856720" cy="6192720"/>
        </p:xfrm>
        <a:graphic>
          <a:graphicData uri="http://schemas.openxmlformats.org/drawingml/2006/table">
            <a:tbl>
              <a:tblPr/>
              <a:tblGrid>
                <a:gridCol w="1584360"/>
                <a:gridCol w="3529080"/>
                <a:gridCol w="3743280"/>
              </a:tblGrid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n detector R&amp;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out system R&amp;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7" name=""/>
          <p:cNvGrpSpPr/>
          <p:nvPr/>
        </p:nvGrpSpPr>
        <p:grpSpPr>
          <a:xfrm>
            <a:off x="1802520" y="1253520"/>
            <a:ext cx="1642320" cy="1888200"/>
            <a:chOff x="1802520" y="1253520"/>
            <a:chExt cx="1642320" cy="1888200"/>
          </a:xfrm>
        </p:grpSpPr>
        <p:grpSp>
          <p:nvGrpSpPr>
            <p:cNvPr id="88" name=""/>
            <p:cNvGrpSpPr/>
            <p:nvPr/>
          </p:nvGrpSpPr>
          <p:grpSpPr>
            <a:xfrm>
              <a:off x="1802520" y="1253520"/>
              <a:ext cx="1642320" cy="1888200"/>
              <a:chOff x="1802520" y="1253520"/>
              <a:chExt cx="1642320" cy="1888200"/>
            </a:xfrm>
          </p:grpSpPr>
          <p:grpSp>
            <p:nvGrpSpPr>
              <p:cNvPr id="89" name=""/>
              <p:cNvGrpSpPr/>
              <p:nvPr/>
            </p:nvGrpSpPr>
            <p:grpSpPr>
              <a:xfrm>
                <a:off x="1802520" y="1253520"/>
                <a:ext cx="1617120" cy="1611360"/>
                <a:chOff x="1802520" y="1253520"/>
                <a:chExt cx="1617120" cy="1611360"/>
              </a:xfrm>
            </p:grpSpPr>
            <p:grpSp>
              <p:nvGrpSpPr>
                <p:cNvPr id="90" name=""/>
                <p:cNvGrpSpPr/>
                <p:nvPr/>
              </p:nvGrpSpPr>
              <p:grpSpPr>
                <a:xfrm>
                  <a:off x="1802520" y="1253520"/>
                  <a:ext cx="1617120" cy="1609920"/>
                  <a:chOff x="1802520" y="1253520"/>
                  <a:chExt cx="1617120" cy="1609920"/>
                </a:xfrm>
              </p:grpSpPr>
              <p:sp>
                <p:nvSpPr>
                  <p:cNvPr id="91" name=""/>
                  <p:cNvSpPr/>
                  <p:nvPr/>
                </p:nvSpPr>
                <p:spPr>
                  <a:xfrm>
                    <a:off x="2336760" y="2067120"/>
                    <a:ext cx="642600" cy="796320"/>
                  </a:xfrm>
                  <a:custGeom>
                    <a:avLst/>
                    <a:gdLst>
                      <a:gd name="textAreaLeft" fmla="*/ 38880 w 642600"/>
                      <a:gd name="textAreaRight" fmla="*/ 603720 w 642600"/>
                      <a:gd name="textAreaTop" fmla="*/ 38880 h 796320"/>
                      <a:gd name="textAreaBottom" fmla="*/ 757440 h 796320"/>
                    </a:gdLst>
                    <a:ahLst/>
                    <a:rect l="textAreaLeft" t="textAreaTop" r="textAreaRight" b="textAreaBottom"/>
                    <a:pathLst>
                      <a:path w="21600" h="26764">
                        <a:moveTo>
                          <a:pt x="4493" y="0"/>
                        </a:moveTo>
                        <a:arcTo wR="4493" hR="4493" stAng="16200000" swAng="-5400000"/>
                        <a:lnTo>
                          <a:pt x="0" y="22271"/>
                        </a:lnTo>
                        <a:arcTo wR="4493" hR="4493" stAng="10800000" swAng="-5400000"/>
                        <a:lnTo>
                          <a:pt x="17107" y="26764"/>
                        </a:lnTo>
                        <a:arcTo wR="4493" hR="4493" stAng="5400000" swAng="-5400000"/>
                        <a:lnTo>
                          <a:pt x="21600" y="4493"/>
                        </a:lnTo>
                        <a:arcTo wR="4493" hR="4493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1835280" y="1273680"/>
                    <a:ext cx="1584360" cy="1088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2355120" y="2246760"/>
                    <a:ext cx="608760" cy="1605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4" name=""/>
                  <p:cNvGrpSpPr/>
                  <p:nvPr/>
                </p:nvGrpSpPr>
                <p:grpSpPr>
                  <a:xfrm>
                    <a:off x="1802520" y="1253520"/>
                    <a:ext cx="1597680" cy="1037160"/>
                    <a:chOff x="1802520" y="1253520"/>
                    <a:chExt cx="1597680" cy="1037160"/>
                  </a:xfrm>
                </p:grpSpPr>
                <p:sp>
                  <p:nvSpPr>
                    <p:cNvPr id="95" name=""/>
                    <p:cNvSpPr/>
                    <p:nvPr/>
                  </p:nvSpPr>
                  <p:spPr>
                    <a:xfrm rot="21468000">
                      <a:off x="1820520" y="1282680"/>
                      <a:ext cx="1561320" cy="97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42" y="0"/>
                          </a:moveTo>
                          <a:arcTo wR="10800" hR="10800" stAng="-5386777" swAng="5367352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42" y="0"/>
                          </a:moveTo>
                          <a:arcTo wR="10800" hR="10800" stAng="-5386777" swAng="5367352"/>
                        </a:path>
                      </a:pathLst>
                    </a:custGeom>
                    <a:solidFill>
                      <a:srgbClr val="ffffff"/>
                    </a:solidFill>
                    <a:ln w="7632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 flipH="1" rot="66600">
                      <a:off x="1884240" y="1281600"/>
                      <a:ext cx="1486080" cy="97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42" y="0"/>
                          </a:moveTo>
                          <a:arcTo wR="10800" hR="10800" stAng="-5386777" swAng="5308926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42" y="0"/>
                          </a:moveTo>
                          <a:arcTo wR="10800" hR="10800" stAng="-5386777" swAng="5308926"/>
                        </a:path>
                      </a:pathLst>
                    </a:custGeom>
                    <a:solidFill>
                      <a:srgbClr val="ffffff"/>
                    </a:solidFill>
                    <a:ln w="7632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7" name=""/>
                <p:cNvGrpSpPr/>
                <p:nvPr/>
              </p:nvGrpSpPr>
              <p:grpSpPr>
                <a:xfrm>
                  <a:off x="2467800" y="2117160"/>
                  <a:ext cx="385560" cy="747720"/>
                  <a:chOff x="2467800" y="2117160"/>
                  <a:chExt cx="385560" cy="74772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>
                    <a:off x="2467800" y="2117160"/>
                    <a:ext cx="385560" cy="747720"/>
                  </a:xfrm>
                  <a:prstGeom prst="rect">
                    <a:avLst/>
                  </a:prstGeom>
                  <a:solidFill>
                    <a:srgbClr val="808080"/>
                  </a:solidFill>
                  <a:ln w="2844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2478960" y="2856960"/>
                    <a:ext cx="362880" cy="2520"/>
                  </a:xfrm>
                  <a:prstGeom prst="line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100" name="" descr=""/>
              <p:cNvPicPr/>
              <p:nvPr/>
            </p:nvPicPr>
            <p:blipFill>
              <a:blip r:embed="rId1"/>
              <a:srcRect l="48301" t="56375" r="40471" b="5752"/>
              <a:stretch/>
            </p:blipFill>
            <p:spPr>
              <a:xfrm>
                <a:off x="2497320" y="2141280"/>
                <a:ext cx="322920" cy="100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2532240" y="2068920"/>
                <a:ext cx="252720" cy="0"/>
              </a:xfrm>
              <a:prstGeom prst="line">
                <a:avLst/>
              </a:prstGeom>
              <a:ln w="7632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087640" y="1405080"/>
                <a:ext cx="13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cc00"/>
                    </a:solidFill>
                    <a:latin typeface="Comic Sans MS"/>
                  </a:rPr>
                  <a:t>Photocathod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2346480" y="1772280"/>
              <a:ext cx="67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99"/>
                  </a:solidFill>
                  <a:latin typeface="Comic Sans MS"/>
                </a:rPr>
                <a:t>Sc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03720" y="2422800"/>
              <a:ext cx="6166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99"/>
                  </a:solidFill>
                  <a:latin typeface="Comic Sans MS"/>
                </a:rPr>
                <a:t>PM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" descr=""/>
          <p:cNvPicPr/>
          <p:nvPr/>
        </p:nvPicPr>
        <p:blipFill>
          <a:blip r:embed="rId2"/>
          <a:srcRect l="0" t="0" r="63264" b="6163"/>
          <a:stretch/>
        </p:blipFill>
        <p:spPr>
          <a:xfrm>
            <a:off x="3691080" y="1197000"/>
            <a:ext cx="1522440" cy="1944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7020000" y="1268280"/>
            <a:ext cx="1838160" cy="187020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2268360" y="3357720"/>
            <a:ext cx="2305080" cy="2232000"/>
            <a:chOff x="2268360" y="3357720"/>
            <a:chExt cx="2305080" cy="2232000"/>
          </a:xfrm>
        </p:grpSpPr>
        <p:pic>
          <p:nvPicPr>
            <p:cNvPr id="108" name="" descr=""/>
            <p:cNvPicPr/>
            <p:nvPr/>
          </p:nvPicPr>
          <p:blipFill>
            <a:blip r:embed="rId4"/>
            <a:srcRect l="17508" t="12557" r="13711" b="5953"/>
            <a:stretch/>
          </p:blipFill>
          <p:spPr>
            <a:xfrm>
              <a:off x="2268360" y="3357720"/>
              <a:ext cx="2305080" cy="2232000"/>
            </a:xfrm>
            <a:prstGeom prst="rect">
              <a:avLst/>
            </a:prstGeom>
            <a:ln w="9360">
              <a:solidFill>
                <a:srgbClr val="333399"/>
              </a:solidFill>
              <a:miter/>
            </a:ln>
          </p:spPr>
        </p:pic>
        <p:pic>
          <p:nvPicPr>
            <p:cNvPr id="109" name="" descr=""/>
            <p:cNvPicPr/>
            <p:nvPr/>
          </p:nvPicPr>
          <p:blipFill>
            <a:blip r:embed="rId5"/>
            <a:srcRect l="16077" t="9433" r="10749" b="5617"/>
            <a:stretch/>
          </p:blipFill>
          <p:spPr>
            <a:xfrm>
              <a:off x="2268360" y="4412520"/>
              <a:ext cx="1168920" cy="1176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5508720" y="3270240"/>
            <a:ext cx="3384360" cy="196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908000" y="587700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Comic Sans MS"/>
              </a:rPr>
              <a:t>Multichannel</a:t>
            </a:r>
            <a:r>
              <a:rPr b="0" lang="ja-JP" sz="1800" spc="-1" strike="noStrike">
                <a:solidFill>
                  <a:srgbClr val="99cc00"/>
                </a:solidFill>
                <a:latin typeface="Comic Sans MS"/>
              </a:rPr>
              <a:t> FE ASIC</a:t>
            </a:r>
            <a:r>
              <a:rPr b="0" lang="en-US" sz="1800" spc="-1" strike="noStrike">
                <a:solidFill>
                  <a:srgbClr val="99cc00"/>
                </a:solidFill>
                <a:latin typeface="Comic Sans MS"/>
              </a:rPr>
              <a:t>, close to the PM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00360" y="4869000"/>
            <a:ext cx="358920" cy="28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700000" y="5157720"/>
            <a:ext cx="142920" cy="719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5651640" y="5373720"/>
            <a:ext cx="2916000" cy="1077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435640" y="1125360"/>
            <a:ext cx="3708360" cy="2087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08000" y="3213000"/>
            <a:ext cx="3454560" cy="3384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8900000">
            <a:off x="2916360" y="3212640"/>
            <a:ext cx="4564080" cy="936720"/>
          </a:xfrm>
          <a:prstGeom prst="leftRightArrow">
            <a:avLst>
              <a:gd name="adj1" fmla="val 50000"/>
              <a:gd name="adj2" fmla="val 9699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46320" y="3141720"/>
            <a:ext cx="287208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omb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4160" y="1484280"/>
            <a:ext cx="18417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Qdet &gt; 10^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28160" y="1484280"/>
            <a:ext cx="18417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Qdet ~ 10^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299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8567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 of FE-ASIC(MAROC2) with HPD in Jap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d on Apr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IC design based on the result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Y2008 fa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e by us (collaboration between F-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27402" t="24231" r="26768" b="36105"/>
          <a:stretch/>
        </p:blipFill>
        <p:spPr>
          <a:xfrm>
            <a:off x="4952880" y="1268280"/>
            <a:ext cx="4191120" cy="27147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843280" y="4941720"/>
            <a:ext cx="2016000" cy="935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8840" y="6021360"/>
            <a:ext cx="74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ble ASIC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only HPD but als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ulti-pixel H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nef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507160" cy="55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For both s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ave manpower for AS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oss measurements decreas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For Japanese-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ccess new technologies (AMS 0.35um process) with low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For French-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now-how of construction of large water cherencov detector based on SK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0:42:01Z</dcterms:created>
  <dc:creator>KEK</dc:creator>
  <dc:description/>
  <dc:language>en-US</dc:language>
  <cp:lastModifiedBy>J.E Campagne</cp:lastModifiedBy>
  <dcterms:modified xsi:type="dcterms:W3CDTF">2007-05-09T07:29:57Z</dcterms:modified>
  <cp:revision>11</cp:revision>
  <dc:subject/>
  <dc:title>New photon detector R&amp;D</dc:title>
</cp:coreProperties>
</file>